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D171-D314-4D2E-B4FA-5AC3F218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2B8-C4C1-404D-B164-64E072C2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A5B-1711-4C3E-9D5C-B5C7AC03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45C-6699-42CC-9771-F0536E4C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FA17-F805-49AE-829E-35927F53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6C74-3E81-4977-BCA4-A53C66C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E5B7-4307-4A1C-AE27-40EF3BC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67B-D7A6-400A-A234-D285BE7A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9FC9-38BB-4757-AF67-85BD83F8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FE2D-204F-447B-9826-89E084D2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B88D-6EE1-4B75-896D-739D7BE4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C84-4DE0-4954-BC4E-D8196E8D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8D6-9E81-4578-9BEC-FAE70CD5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E868-0050-4F94-911D-2CE39289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4C1-C715-4169-A7C4-9AA4660A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5963-7BC5-47AB-B22C-BA474F16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4A99-FFC8-456D-8799-4F614660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009-AA8E-40BC-BA10-591A7E1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359-8F72-45C9-9944-9DA29F9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B73-8479-43DE-9F04-C1499969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D3E-6C36-4E39-90CB-4C3E5936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E22-50F2-4E2A-B3D2-E6880A5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07D-44BE-43C4-BDE2-CD3BD2C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606-293E-4135-9E07-22D97E0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EF79-CDFF-4D74-A67F-F693F23318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BF6E-DC8E-496F-85AC-BC34B97DAF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ising Entrepreneurial Capital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8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ting the Exit Strateg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4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porate minute books and documents (e.g. articles of incorporation, by-laws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mmary of all outstanding or pending litigation with an accompanying letter from the company's lawyer explaining the expected outcome of each lawsuit; a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storical and future budgets along with actual figures (which will be required to assess management's ability to produce accurate forecasts and to determine future expectations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w Tech's Criteria for Inves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Capital Required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$1.575 million, $600,000 in venture capital for expansion of an established, profitable compan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uld prefer an active investor with knowledge of the computer industr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Geography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loser the investor, the bette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als of investor mee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ke a strong first impress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ablish good rappor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 prepared for specific and probing questions on all aspects of the company and the propos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 what questions to ask the inves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pected ques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competitive advantage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ze of your market, and how do you know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"Why do you think this company has the ability to achieve rapid and sustained growth in such a competitive industry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"What are your financial forecasts based on? How liquid will the company be during the expansion? What do you expect gross margins to be?"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gotiating ba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 opening positions. bottom-line terms and conditions, and acceptable compromi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ult with your financial advisor and lawyer throughout the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nk of the investor's point of view when determining their terms and negotiating strategy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y open-minded and flexi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 for common ground with the invest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actical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roach negotiations from a win-win perspective while keeping the investor's position in mind as options are considere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most everything is up for negotiation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gotiations may take time and several meeting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1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 Tech's financial statements for the last three year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years of income tax returns and payment schedule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ils of banking arrangement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2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mmary (and copies) of the main contracts in place (contracts, leases, patents, insurance policies, mortgage documents, sales or supply contracts, etc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 of key customers with historical and projected sales data and order backlog, if availab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itional industry information on the computer power module market and related technology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ue diligence requests (3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 of suppliers and backup suppliers (if part of the needs is a specialty product or servi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turns and warranty data to assess the quality of the product and to assess any contingent liabilities related to the product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ent appraisals of tangible asset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organization char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10:37Z</dcterms:created>
  <dc:creator>John B. Vinturella</dc:creator>
  <dc:description/>
  <dc:language>en-US</dc:language>
  <cp:lastModifiedBy>John B. Vinturella</cp:lastModifiedBy>
  <dcterms:modified xsi:type="dcterms:W3CDTF">2003-05-08T16:16:02Z</dcterms:modified>
  <cp:revision>26</cp:revision>
  <dc:subject/>
  <dc:title>Raising Entrepreneurial Capital </dc:title>
</cp:coreProperties>
</file>